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04C4-7254-4A3B-AC83-8F8089943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D6C-34D9-4766-A515-0856A4BD2F1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14DE-5177-4761-B1F9-78F3F11D21E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C763-3B45-463E-8F3E-B802C2DDFB1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159A-735A-4EE9-9681-F18029053A0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8B5-4D4D-4521-834B-205A7541D67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A6E7-E238-4B0D-9824-2E61BC9E179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33C-62A5-484C-8A33-B366FE6C812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83CE-8004-49A4-940C-CC4270A5131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50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24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4728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550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24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8760" y="333000"/>
            <a:ext cx="7294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550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624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4728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550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624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8760" y="333000"/>
            <a:ext cx="7294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52640" y="4587480"/>
            <a:ext cx="56322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Cultural Competence &amp; Capacity Building </a:t>
            </a:r>
            <a:br>
              <a:rPr sz="4500"/>
            </a:br>
            <a:br>
              <a:rPr sz="30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y: Nate Hartman, Chris Hunter, Terry Martin, &amp; Kristin Williams</a:t>
            </a:r>
            <a:br>
              <a:rPr sz="45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7703640" y="53341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371600" y="228240"/>
            <a:ext cx="741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and ECB to work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his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ontext of the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rpose of an EC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build an organization’s capacity, receptiveness, and use of evaluation” (King, 200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ere is ECB being us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In American Evaluation Association (2008) reported that over 54%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 organizations are utilizing ECB.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World Ban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American Cancer Socie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U.S. Center for Disease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209680" y="304920"/>
            <a:ext cx="586764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0000ff"/>
                  </a:solidFill>
                  <a:miter/>
                </a:ln>
                <a:noFill/>
                <a:effectLst>
                  <a:outerShdw dist="17819" dir="8100000" blurRad="0" rotWithShape="0">
                    <a:srgbClr val="a5a5a5"/>
                  </a:outerShdw>
                </a:effectLst>
                <a:latin typeface="Curlz MT"/>
              </a:rPr>
              <a:t>Is it desirable?</a:t>
            </a:r>
            <a:endParaRPr b="1" lang="en-US" sz="1800" spc="1" strike="noStrike">
              <a:ln w="18000">
                <a:solidFill>
                  <a:srgbClr val="0000ff"/>
                </a:solidFill>
                <a:miter/>
              </a:ln>
              <a:noFill/>
              <a:effectLst>
                <a:outerShdw dist="17819" dir="8100000" blurRad="0" rotWithShape="0">
                  <a:srgbClr val="a5a5a5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46" name="D 4" descr=""/>
          <p:cNvPicPr/>
          <p:nvPr/>
        </p:nvPicPr>
        <p:blipFill>
          <a:blip r:embed="rId1"/>
          <a:stretch/>
        </p:blipFill>
        <p:spPr>
          <a:xfrm>
            <a:off x="920880" y="1122480"/>
            <a:ext cx="81136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9360">
            <a:solidFill>
              <a:srgbClr val="b4682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Building Evaluation Capac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27280" y="1294920"/>
            <a:ext cx="741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1143000" y="1066680"/>
            <a:ext cx="7848360" cy="1066320"/>
            <a:chOff x="1143000" y="1066680"/>
            <a:chExt cx="7848360" cy="1066320"/>
          </a:xfrm>
        </p:grpSpPr>
        <p:sp>
          <p:nvSpPr>
            <p:cNvPr id="150" name="AutoShape 3"/>
            <p:cNvSpPr/>
            <p:nvPr/>
          </p:nvSpPr>
          <p:spPr>
            <a:xfrm>
              <a:off x="1497240" y="1204920"/>
              <a:ext cx="749412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reate attention to new roles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>
              <a:off x="1143000" y="1066680"/>
              <a:ext cx="679320" cy="1066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2" name="Group 2"/>
          <p:cNvGrpSpPr/>
          <p:nvPr/>
        </p:nvGrpSpPr>
        <p:grpSpPr>
          <a:xfrm>
            <a:off x="1143000" y="2514600"/>
            <a:ext cx="7848360" cy="1065960"/>
            <a:chOff x="1143000" y="2514600"/>
            <a:chExt cx="7848360" cy="1065960"/>
          </a:xfrm>
        </p:grpSpPr>
        <p:sp>
          <p:nvSpPr>
            <p:cNvPr id="153" name="AutoShape 3"/>
            <p:cNvSpPr/>
            <p:nvPr/>
          </p:nvSpPr>
          <p:spPr>
            <a:xfrm>
              <a:off x="1497240" y="2652840"/>
              <a:ext cx="7494120" cy="83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uild organizational capacity, receptiveness, and use of evaluation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>
              <a:off x="1143000" y="2514600"/>
              <a:ext cx="679320" cy="106596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5960"/>
                <a:gd name="textAreaBottom" fmla="*/ 1066320 h 106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5" name="Group 2"/>
          <p:cNvGrpSpPr/>
          <p:nvPr/>
        </p:nvGrpSpPr>
        <p:grpSpPr>
          <a:xfrm>
            <a:off x="1143000" y="4038480"/>
            <a:ext cx="7848360" cy="1066320"/>
            <a:chOff x="1143000" y="4038480"/>
            <a:chExt cx="7848360" cy="1066320"/>
          </a:xfrm>
        </p:grpSpPr>
        <p:sp>
          <p:nvSpPr>
            <p:cNvPr id="156" name="AutoShape 3"/>
            <p:cNvSpPr/>
            <p:nvPr/>
          </p:nvSpPr>
          <p:spPr>
            <a:xfrm>
              <a:off x="1497240" y="4176720"/>
              <a:ext cx="749412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 role of evaluators are quite distinct from evaluation studi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1143000" y="4038480"/>
              <a:ext cx="679320" cy="1066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Group 2"/>
          <p:cNvGrpSpPr/>
          <p:nvPr/>
        </p:nvGrpSpPr>
        <p:grpSpPr>
          <a:xfrm>
            <a:off x="1143000" y="5410080"/>
            <a:ext cx="7848360" cy="1066320"/>
            <a:chOff x="1143000" y="5410080"/>
            <a:chExt cx="7848360" cy="1066320"/>
          </a:xfrm>
        </p:grpSpPr>
        <p:sp>
          <p:nvSpPr>
            <p:cNvPr id="159" name="AutoShape 3"/>
            <p:cNvSpPr/>
            <p:nvPr/>
          </p:nvSpPr>
          <p:spPr>
            <a:xfrm>
              <a:off x="1497240" y="5548320"/>
              <a:ext cx="749412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valuation Capacity Development Group 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- www.ecdg.ne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AutoShape 4"/>
            <p:cNvSpPr/>
            <p:nvPr/>
          </p:nvSpPr>
          <p:spPr>
            <a:xfrm>
              <a:off x="1143000" y="5410080"/>
              <a:ext cx="679320" cy="1066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disciplinary Model of EC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Content Placeholder 3" descr="ECB Model.bmp"/>
          <p:cNvPicPr/>
          <p:nvPr/>
        </p:nvPicPr>
        <p:blipFill>
          <a:blip r:embed="rId1"/>
          <a:stretch/>
        </p:blipFill>
        <p:spPr>
          <a:xfrm>
            <a:off x="1219320" y="914400"/>
            <a:ext cx="77454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7238880" y="65818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kill and Boyle (2008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946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of ECB-Preskill and Bo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ontent Placeholder 3" descr=""/>
          <p:cNvPicPr/>
          <p:nvPr/>
        </p:nvPicPr>
        <p:blipFill>
          <a:blip r:embed="rId1"/>
          <a:stretch/>
        </p:blipFill>
        <p:spPr>
          <a:xfrm>
            <a:off x="1530360" y="1335240"/>
            <a:ext cx="74548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3"/>
          <p:cNvSpPr txBox="1"/>
          <p:nvPr/>
        </p:nvSpPr>
        <p:spPr>
          <a:xfrm>
            <a:off x="457200" y="380988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aa23a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Questions?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aa23a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838080" y="4952880"/>
            <a:ext cx="3038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aa23a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.</a:t>
            </a:r>
            <a:endParaRPr b="1" lang="en-US" sz="2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aa23a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8"/>
          <p:cNvGrpSpPr/>
          <p:nvPr/>
        </p:nvGrpSpPr>
        <p:grpSpPr>
          <a:xfrm>
            <a:off x="2286000" y="3276720"/>
            <a:ext cx="1744200" cy="3352320"/>
            <a:chOff x="2286000" y="3276720"/>
            <a:chExt cx="1744200" cy="3352320"/>
          </a:xfrm>
        </p:grpSpPr>
        <p:sp>
          <p:nvSpPr>
            <p:cNvPr id="86" name="AutoShape 9"/>
            <p:cNvSpPr/>
            <p:nvPr/>
          </p:nvSpPr>
          <p:spPr>
            <a:xfrm>
              <a:off x="2286000" y="3276720"/>
              <a:ext cx="1744200" cy="3352320"/>
            </a:xfrm>
            <a:custGeom>
              <a:avLst/>
              <a:gdLst>
                <a:gd name="textAreaLeft" fmla="*/ 69840 w 1744200"/>
                <a:gd name="textAreaRight" fmla="*/ 1674360 w 1744200"/>
                <a:gd name="textAreaTop" fmla="*/ 69840 h 3352320"/>
                <a:gd name="textAreaBottom" fmla="*/ 3282480 h 3352320"/>
              </a:gdLst>
              <a:ahLst/>
              <a:rect l="textAreaLeft" t="textAreaTop" r="textAreaRight" b="textAreaBottom"/>
              <a:pathLst>
                <a:path w="21600" h="41511">
                  <a:moveTo>
                    <a:pt x="2953" y="0"/>
                  </a:moveTo>
                  <a:arcTo wR="2953" hR="2953" stAng="16200000" swAng="-5400000"/>
                  <a:lnTo>
                    <a:pt x="0" y="38558"/>
                  </a:lnTo>
                  <a:arcTo wR="2953" hR="2953" stAng="10800000" swAng="-5400000"/>
                  <a:lnTo>
                    <a:pt x="18647" y="41511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AutoShape 10"/>
            <p:cNvSpPr/>
            <p:nvPr/>
          </p:nvSpPr>
          <p:spPr>
            <a:xfrm rot="10800000">
              <a:off x="2297160" y="3290400"/>
              <a:ext cx="1721520" cy="145980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8" name="Text Box 11"/>
          <p:cNvSpPr/>
          <p:nvPr/>
        </p:nvSpPr>
        <p:spPr>
          <a:xfrm>
            <a:off x="2209680" y="3429000"/>
            <a:ext cx="18288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Verdana"/>
                <a:ea typeface="Gulim"/>
              </a:rPr>
              <a:t>-</a:t>
            </a: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Multicultural influences shape or are shaped by our work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Verdana"/>
                <a:ea typeface="Gulim"/>
              </a:rPr>
              <a:t>Culture Validity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Understand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the cultur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Verdana"/>
                <a:ea typeface="Gulim"/>
              </a:rPr>
              <a:t>-</a:t>
            </a: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Race, ethnicity, gender, religion, social economics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1981080" y="1600200"/>
            <a:ext cx="2286000" cy="1592280"/>
          </a:xfrm>
          <a:prstGeom prst="roundRect">
            <a:avLst>
              <a:gd name="adj" fmla="val 14222"/>
            </a:avLst>
          </a:pr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Kare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Kirkhar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Gulim"/>
              </a:rPr>
              <a:t>(1994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5562720" y="1523880"/>
            <a:ext cx="2286000" cy="1744920"/>
          </a:xfrm>
          <a:prstGeom prst="roundRect">
            <a:avLst>
              <a:gd name="adj" fmla="val 14222"/>
            </a:avLst>
          </a:pr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Joint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Committee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On Standard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For Educational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Evaluation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371600" y="5335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ultural Competenc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5638680" y="3429000"/>
            <a:ext cx="2438280" cy="3200040"/>
            <a:chOff x="5638680" y="3429000"/>
            <a:chExt cx="2438280" cy="3200040"/>
          </a:xfrm>
        </p:grpSpPr>
        <p:sp>
          <p:nvSpPr>
            <p:cNvPr id="93" name="AutoShape 9"/>
            <p:cNvSpPr/>
            <p:nvPr/>
          </p:nvSpPr>
          <p:spPr>
            <a:xfrm>
              <a:off x="5638680" y="3429000"/>
              <a:ext cx="2438280" cy="3200040"/>
            </a:xfrm>
            <a:custGeom>
              <a:avLst/>
              <a:gdLst>
                <a:gd name="textAreaLeft" fmla="*/ 97560 w 2438280"/>
                <a:gd name="textAreaRight" fmla="*/ 2340720 w 2438280"/>
                <a:gd name="textAreaTop" fmla="*/ 97560 h 3200040"/>
                <a:gd name="textAreaBottom" fmla="*/ 3102480 h 3200040"/>
              </a:gdLst>
              <a:ahLst/>
              <a:rect l="textAreaLeft" t="textAreaTop" r="textAreaRight" b="textAreaBottom"/>
              <a:pathLst>
                <a:path w="21600" h="28347">
                  <a:moveTo>
                    <a:pt x="2953" y="0"/>
                  </a:moveTo>
                  <a:arcTo wR="2953" hR="2953" stAng="16200000" swAng="-5400000"/>
                  <a:lnTo>
                    <a:pt x="0" y="25394"/>
                  </a:lnTo>
                  <a:arcTo wR="2953" hR="2953" stAng="10800000" swAng="-5400000"/>
                  <a:lnTo>
                    <a:pt x="18647" y="28347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5638680" y="3885120"/>
              <a:ext cx="2360520" cy="2133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Evaluator Credibilit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Explicit Valu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Cultural Viabilit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Formal Agreement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Justified Conclusions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&amp; Decision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 flipH="1">
            <a:off x="539640" y="4686480"/>
            <a:ext cx="1224000" cy="828360"/>
          </a:xfrm>
          <a:prstGeom prst="ellipse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ea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1371600" y="2971800"/>
            <a:ext cx="7543800" cy="1295280"/>
          </a:xfrm>
          <a:prstGeom prst="roundRect">
            <a:avLst>
              <a:gd name="adj" fmla="val 14222"/>
            </a:avLst>
          </a:pr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Cultural Viability- Recognizing, monitoring, and balancing cultural &amp; political interests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1371600" y="304920"/>
            <a:ext cx="7467480" cy="1066680"/>
          </a:xfrm>
          <a:prstGeom prst="roundRect">
            <a:avLst>
              <a:gd name="adj" fmla="val 14222"/>
            </a:avLst>
          </a:pr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Evaluator Credibility- Credibility in the context of program &amp; evaluation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>
            <a:off x="1371600" y="1600200"/>
            <a:ext cx="7543800" cy="1143000"/>
          </a:xfrm>
          <a:prstGeom prst="roundRect">
            <a:avLst>
              <a:gd name="adj" fmla="val 14222"/>
            </a:avLst>
          </a:prstGeom>
          <a:solidFill>
            <a:srgbClr val="daa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Explicit Values- clarification of specific cultural values reinforcing purpose, process, &amp; judgment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1371600" y="4419720"/>
            <a:ext cx="7467480" cy="1066680"/>
          </a:xfrm>
          <a:prstGeom prst="roundRect">
            <a:avLst>
              <a:gd name="adj" fmla="val 142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Formal Agreements- Consideration of cultural context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1371600" y="5638680"/>
            <a:ext cx="7467480" cy="1067040"/>
          </a:xfrm>
          <a:prstGeom prst="roundRect">
            <a:avLst>
              <a:gd name="adj" fmla="val 14222"/>
            </a:avLst>
          </a:pr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Justified Conclusions &amp; Decisions- Justified in the culture and context where they have consequence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228600"/>
            <a:ext cx="72946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is it importan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41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ist evaluator with the issues of concern to the stakehol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multiple persp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ect valid data, sensitive to the norms, perspectives, and belief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alyze and interpret data to achieve valid resul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 the legitimacy of the evaluation for all stakehol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 the usefulness and use of the resul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e problems with inequality/ Improve Social equality and democratic values in the way the evaluation was conduc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5638680" y="4114800"/>
            <a:ext cx="3352320" cy="2314440"/>
            <a:chOff x="5638680" y="4114800"/>
            <a:chExt cx="3352320" cy="2314440"/>
          </a:xfrm>
        </p:grpSpPr>
        <p:sp>
          <p:nvSpPr>
            <p:cNvPr id="104" name="AutoShape 3"/>
            <p:cNvSpPr/>
            <p:nvPr/>
          </p:nvSpPr>
          <p:spPr>
            <a:xfrm>
              <a:off x="5638680" y="4114800"/>
              <a:ext cx="3352320" cy="2314440"/>
            </a:xfrm>
            <a:prstGeom prst="roundRect">
              <a:avLst>
                <a:gd name="adj" fmla="val 1367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 rot="10800000">
              <a:off x="5660280" y="4123800"/>
              <a:ext cx="3305520" cy="100764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1371600" y="3809880"/>
            <a:ext cx="3962160" cy="3047760"/>
            <a:chOff x="1371600" y="3809880"/>
            <a:chExt cx="3962160" cy="3047760"/>
          </a:xfrm>
        </p:grpSpPr>
        <p:sp>
          <p:nvSpPr>
            <p:cNvPr id="107" name="AutoShape 9"/>
            <p:cNvSpPr/>
            <p:nvPr/>
          </p:nvSpPr>
          <p:spPr>
            <a:xfrm>
              <a:off x="1371600" y="3809880"/>
              <a:ext cx="3962160" cy="3047760"/>
            </a:xfrm>
            <a:prstGeom prst="roundRect">
              <a:avLst>
                <a:gd name="adj" fmla="val 1367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371600" y="4495680"/>
              <a:ext cx="3872520" cy="13269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Process use, illustrate the impac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Evaluators recognized impact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changes about themselves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-The evaluative ways of thinking abou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the employees in the organizatio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-Learning, influenced the organizatio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9" name="Text Box 15"/>
          <p:cNvSpPr/>
          <p:nvPr/>
        </p:nvSpPr>
        <p:spPr>
          <a:xfrm>
            <a:off x="1447920" y="4038480"/>
            <a:ext cx="17366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981080" y="1828800"/>
            <a:ext cx="2286000" cy="1828800"/>
          </a:xfrm>
          <a:prstGeom prst="roundRect">
            <a:avLst>
              <a:gd name="adj" fmla="val 14222"/>
            </a:avLst>
          </a:pr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Michael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Patton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5943600" y="1905120"/>
            <a:ext cx="2743200" cy="1752480"/>
          </a:xfrm>
          <a:prstGeom prst="roundRect">
            <a:avLst>
              <a:gd name="adj" fmla="val 14222"/>
            </a:avLst>
          </a:prstGeom>
          <a:solidFill>
            <a:srgbClr val="daa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Evaluation’s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rol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1295280" y="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fects an Evaluation has on an Organization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5715000" y="4471920"/>
            <a:ext cx="32004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Gulim"/>
              </a:rPr>
              <a:t>Evaluations, more popula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Gulim"/>
              </a:rPr>
              <a:t>Accountabil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Gulim"/>
              </a:rPr>
              <a:t>Collect &amp; Report evaluative da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9524880" y="3733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ountability increased in the last deca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ith those requirements, more responsibilities for agency employe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1295280" y="914400"/>
            <a:ext cx="7848360" cy="1599120"/>
            <a:chOff x="1295280" y="914400"/>
            <a:chExt cx="7848360" cy="1599120"/>
          </a:xfrm>
        </p:grpSpPr>
        <p:sp>
          <p:nvSpPr>
            <p:cNvPr id="116" name="AutoShape 3"/>
            <p:cNvSpPr/>
            <p:nvPr/>
          </p:nvSpPr>
          <p:spPr>
            <a:xfrm>
              <a:off x="1649520" y="1121760"/>
              <a:ext cx="7494120" cy="126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" name="AutoShape 4"/>
            <p:cNvSpPr/>
            <p:nvPr/>
          </p:nvSpPr>
          <p:spPr>
            <a:xfrm>
              <a:off x="1295280" y="914400"/>
              <a:ext cx="679320" cy="1599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599120"/>
                <a:gd name="textAreaBottom" fmla="*/ 1599480 h 159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8" name="Group 5"/>
          <p:cNvGrpSpPr/>
          <p:nvPr/>
        </p:nvGrpSpPr>
        <p:grpSpPr>
          <a:xfrm>
            <a:off x="1295280" y="2819520"/>
            <a:ext cx="7619760" cy="818640"/>
            <a:chOff x="1295280" y="2819520"/>
            <a:chExt cx="7619760" cy="818640"/>
          </a:xfrm>
        </p:grpSpPr>
        <p:sp>
          <p:nvSpPr>
            <p:cNvPr id="119" name="AutoShape 6"/>
            <p:cNvSpPr/>
            <p:nvPr/>
          </p:nvSpPr>
          <p:spPr>
            <a:xfrm>
              <a:off x="1599120" y="2914920"/>
              <a:ext cx="7315920" cy="64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84f1a"/>
                </a:gs>
                <a:gs pos="50000">
                  <a:srgbClr val="b46822"/>
                </a:gs>
                <a:gs pos="100000">
                  <a:srgbClr val="884f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295280" y="2819520"/>
              <a:ext cx="663120" cy="81864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33010"/>
                </a:gs>
                <a:gs pos="100000">
                  <a:srgbClr val="b46822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1295280" y="3886200"/>
            <a:ext cx="7543080" cy="801360"/>
            <a:chOff x="1295280" y="3886200"/>
            <a:chExt cx="7543080" cy="801360"/>
          </a:xfrm>
        </p:grpSpPr>
        <p:sp>
          <p:nvSpPr>
            <p:cNvPr id="122" name="AutoShape 9"/>
            <p:cNvSpPr/>
            <p:nvPr/>
          </p:nvSpPr>
          <p:spPr>
            <a:xfrm>
              <a:off x="1635480" y="3987360"/>
              <a:ext cx="7202880" cy="631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6622"/>
                </a:gs>
                <a:gs pos="50000">
                  <a:srgbClr val="ef802b"/>
                </a:gs>
                <a:gs pos="100000">
                  <a:srgbClr val="bf66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AutoShape 10"/>
            <p:cNvSpPr/>
            <p:nvPr/>
          </p:nvSpPr>
          <p:spPr>
            <a:xfrm>
              <a:off x="1295280" y="3886200"/>
              <a:ext cx="653040" cy="801360"/>
            </a:xfrm>
            <a:custGeom>
              <a:avLst/>
              <a:gdLst>
                <a:gd name="textAreaLeft" fmla="*/ 0 w 653040"/>
                <a:gd name="textAreaRight" fmla="*/ 653400 w 65304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f3b14"/>
                </a:gs>
                <a:gs pos="100000">
                  <a:srgbClr val="ef802b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1295280" y="4876920"/>
            <a:ext cx="7696080" cy="1675080"/>
            <a:chOff x="1295280" y="4876920"/>
            <a:chExt cx="7696080" cy="1675080"/>
          </a:xfrm>
        </p:grpSpPr>
        <p:sp>
          <p:nvSpPr>
            <p:cNvPr id="125" name="AutoShape 12"/>
            <p:cNvSpPr/>
            <p:nvPr/>
          </p:nvSpPr>
          <p:spPr>
            <a:xfrm>
              <a:off x="1589040" y="5077080"/>
              <a:ext cx="7402320" cy="131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7b2c"/>
                </a:gs>
                <a:gs pos="50000">
                  <a:srgbClr val="daa23a"/>
                </a:gs>
                <a:gs pos="100000">
                  <a:srgbClr val="a57b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AutoShape 13"/>
            <p:cNvSpPr/>
            <p:nvPr/>
          </p:nvSpPr>
          <p:spPr>
            <a:xfrm>
              <a:off x="1295280" y="4876920"/>
              <a:ext cx="671040" cy="167508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4b1b"/>
                </a:gs>
                <a:gs pos="100000">
                  <a:srgbClr val="daa23a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7" name="AutoShape 14"/>
          <p:cNvSpPr/>
          <p:nvPr/>
        </p:nvSpPr>
        <p:spPr>
          <a:xfrm>
            <a:off x="2133720" y="14479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Recognition- evaluation has an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impact beyond program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905120" y="297180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Evaluate how to make decisi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981080" y="4038480"/>
            <a:ext cx="46389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Impact on Organizati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981080" y="548640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2 Discussions: Mainstream Evalu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&amp; Build Evaluative Capacity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Text Box 50"/>
          <p:cNvSpPr/>
          <p:nvPr/>
        </p:nvSpPr>
        <p:spPr>
          <a:xfrm>
            <a:off x="76212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aluation’s Roles: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685800" y="2057400"/>
            <a:ext cx="2057400" cy="3048120"/>
          </a:xfrm>
          <a:custGeom>
            <a:avLst/>
            <a:gdLst>
              <a:gd name="textAreaLeft" fmla="*/ 85680 w 2057400"/>
              <a:gd name="textAreaRight" fmla="*/ 1971720 w 2057400"/>
              <a:gd name="textAreaTop" fmla="*/ 85680 h 3048120"/>
              <a:gd name="textAreaBottom" fmla="*/ 2962440 h 3048120"/>
            </a:gdLst>
            <a:ahLst/>
            <a:rect l="textAreaLeft" t="textAreaTop" r="textAreaRight" b="textAreaBottom"/>
            <a:pathLst>
              <a:path w="21600" h="31999">
                <a:moveTo>
                  <a:pt x="3072" y="0"/>
                </a:moveTo>
                <a:arcTo wR="3072" hR="3072" stAng="16200000" swAng="-5400000"/>
                <a:lnTo>
                  <a:pt x="0" y="28927"/>
                </a:lnTo>
                <a:arcTo wR="3072" hR="3072" stAng="10800000" swAng="-5400000"/>
                <a:lnTo>
                  <a:pt x="18528" y="31999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b46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acher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mak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urs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recommend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990720" y="1066680"/>
            <a:ext cx="2663640" cy="1513080"/>
          </a:xfrm>
          <a:custGeom>
            <a:avLst/>
            <a:gdLst>
              <a:gd name="textAreaLeft" fmla="*/ 389880 w 2663640"/>
              <a:gd name="textAreaRight" fmla="*/ 2273760 w 2663640"/>
              <a:gd name="textAreaTop" fmla="*/ 221400 h 1513080"/>
              <a:gd name="textAreaBottom" fmla="*/ 1291680 h 1513080"/>
            </a:gdLst>
            <a:ahLst/>
            <a:rect l="textAreaLeft" t="textAreaTop" r="textAreaRight" b="textAreaBottom"/>
            <a:pathLst>
              <a:path w="21600" h="21600">
                <a:moveTo>
                  <a:pt x="17325" y="7865"/>
                </a:moveTo>
                <a:cubicBezTo>
                  <a:pt x="16170" y="5296"/>
                  <a:pt x="13616" y="3645"/>
                  <a:pt x="10800" y="3645"/>
                </a:cubicBezTo>
                <a:cubicBezTo>
                  <a:pt x="6981" y="3644"/>
                  <a:pt x="3836" y="6642"/>
                  <a:pt x="3653" y="10456"/>
                </a:cubicBezTo>
                <a:lnTo>
                  <a:pt x="12" y="10281"/>
                </a:lnTo>
                <a:cubicBezTo>
                  <a:pt x="289" y="4525"/>
                  <a:pt x="5036" y="-1"/>
                  <a:pt x="10800" y="0"/>
                </a:cubicBezTo>
                <a:cubicBezTo>
                  <a:pt x="15050" y="0"/>
                  <a:pt x="18906" y="2493"/>
                  <a:pt x="20649" y="6370"/>
                </a:cubicBezTo>
                <a:lnTo>
                  <a:pt x="23112" y="5262"/>
                </a:lnTo>
                <a:lnTo>
                  <a:pt x="20843" y="11242"/>
                </a:lnTo>
                <a:lnTo>
                  <a:pt x="14863" y="8972"/>
                </a:lnTo>
                <a:lnTo>
                  <a:pt x="17325" y="78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flipV="1">
            <a:off x="3200400" y="4419000"/>
            <a:ext cx="2664000" cy="1439640"/>
          </a:xfrm>
          <a:custGeom>
            <a:avLst/>
            <a:gdLst>
              <a:gd name="textAreaLeft" fmla="*/ 389880 w 2664000"/>
              <a:gd name="textAreaRight" fmla="*/ 2274120 w 2664000"/>
              <a:gd name="textAreaTop" fmla="*/ 210600 h 1439640"/>
              <a:gd name="textAreaBottom" fmla="*/ 1229040 h 1439640"/>
            </a:gdLst>
            <a:ahLst/>
            <a:rect l="textAreaLeft" t="textAreaTop" r="textAreaRight" b="textAreaBottom"/>
            <a:pathLst>
              <a:path w="21600" h="21600">
                <a:moveTo>
                  <a:pt x="17325" y="7865"/>
                </a:moveTo>
                <a:cubicBezTo>
                  <a:pt x="16170" y="5296"/>
                  <a:pt x="13616" y="3645"/>
                  <a:pt x="10800" y="3645"/>
                </a:cubicBezTo>
                <a:cubicBezTo>
                  <a:pt x="6981" y="3644"/>
                  <a:pt x="3836" y="6642"/>
                  <a:pt x="3653" y="10456"/>
                </a:cubicBezTo>
                <a:lnTo>
                  <a:pt x="12" y="10281"/>
                </a:lnTo>
                <a:cubicBezTo>
                  <a:pt x="289" y="4525"/>
                  <a:pt x="5036" y="-1"/>
                  <a:pt x="10800" y="0"/>
                </a:cubicBezTo>
                <a:cubicBezTo>
                  <a:pt x="15050" y="0"/>
                  <a:pt x="18906" y="2493"/>
                  <a:pt x="20649" y="6370"/>
                </a:cubicBezTo>
                <a:lnTo>
                  <a:pt x="23112" y="5262"/>
                </a:lnTo>
                <a:lnTo>
                  <a:pt x="20843" y="11242"/>
                </a:lnTo>
                <a:lnTo>
                  <a:pt x="14863" y="8972"/>
                </a:lnTo>
                <a:lnTo>
                  <a:pt x="17325" y="78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791320" y="1066680"/>
            <a:ext cx="2663640" cy="1513080"/>
          </a:xfrm>
          <a:custGeom>
            <a:avLst/>
            <a:gdLst>
              <a:gd name="textAreaLeft" fmla="*/ 389880 w 2663640"/>
              <a:gd name="textAreaRight" fmla="*/ 2273760 w 2663640"/>
              <a:gd name="textAreaTop" fmla="*/ 221400 h 1513080"/>
              <a:gd name="textAreaBottom" fmla="*/ 1291680 h 1513080"/>
            </a:gdLst>
            <a:ahLst/>
            <a:rect l="textAreaLeft" t="textAreaTop" r="textAreaRight" b="textAreaBottom"/>
            <a:pathLst>
              <a:path w="21600" h="21600">
                <a:moveTo>
                  <a:pt x="17325" y="7865"/>
                </a:moveTo>
                <a:cubicBezTo>
                  <a:pt x="16170" y="5296"/>
                  <a:pt x="13616" y="3645"/>
                  <a:pt x="10800" y="3645"/>
                </a:cubicBezTo>
                <a:cubicBezTo>
                  <a:pt x="6981" y="3644"/>
                  <a:pt x="3836" y="6642"/>
                  <a:pt x="3653" y="10456"/>
                </a:cubicBezTo>
                <a:lnTo>
                  <a:pt x="12" y="10281"/>
                </a:lnTo>
                <a:cubicBezTo>
                  <a:pt x="289" y="4525"/>
                  <a:pt x="5036" y="-1"/>
                  <a:pt x="10800" y="0"/>
                </a:cubicBezTo>
                <a:cubicBezTo>
                  <a:pt x="15050" y="0"/>
                  <a:pt x="18906" y="2493"/>
                  <a:pt x="20649" y="6370"/>
                </a:cubicBezTo>
                <a:lnTo>
                  <a:pt x="23112" y="5262"/>
                </a:lnTo>
                <a:lnTo>
                  <a:pt x="20843" y="11242"/>
                </a:lnTo>
                <a:lnTo>
                  <a:pt x="14863" y="8972"/>
                </a:lnTo>
                <a:lnTo>
                  <a:pt x="17325" y="78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 rot="16200000">
            <a:off x="4290480" y="-2212920"/>
            <a:ext cx="139932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The Course Selection Process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2895480" y="2133720"/>
            <a:ext cx="2057400" cy="2895480"/>
          </a:xfrm>
          <a:custGeom>
            <a:avLst/>
            <a:gdLst>
              <a:gd name="textAreaLeft" fmla="*/ 85680 w 2057400"/>
              <a:gd name="textAreaRight" fmla="*/ 1971720 w 2057400"/>
              <a:gd name="textAreaTop" fmla="*/ 85680 h 2895480"/>
              <a:gd name="textAreaBottom" fmla="*/ 2809800 h 2895480"/>
            </a:gdLst>
            <a:ahLst/>
            <a:rect l="textAreaLeft" t="textAreaTop" r="textAreaRight" b="textAreaBottom"/>
            <a:pathLst>
              <a:path w="21600" h="30397">
                <a:moveTo>
                  <a:pt x="3072" y="0"/>
                </a:moveTo>
                <a:arcTo wR="3072" hR="3072" stAng="16200000" swAng="-5400000"/>
                <a:lnTo>
                  <a:pt x="0" y="27325"/>
                </a:lnTo>
                <a:arcTo wR="3072" hR="3072" stAng="10800000" swAng="-5400000"/>
                <a:lnTo>
                  <a:pt x="18528" y="30397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udent tak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urse request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form ho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5105520" y="2133720"/>
            <a:ext cx="1981080" cy="2819160"/>
          </a:xfrm>
          <a:custGeom>
            <a:avLst/>
            <a:gdLst>
              <a:gd name="textAreaLeft" fmla="*/ 82440 w 1981080"/>
              <a:gd name="textAreaRight" fmla="*/ 1898640 w 1981080"/>
              <a:gd name="textAreaTop" fmla="*/ 82440 h 2819160"/>
              <a:gd name="textAreaBottom" fmla="*/ 2736720 h 2819160"/>
            </a:gdLst>
            <a:ahLst/>
            <a:rect l="textAreaLeft" t="textAreaTop" r="textAreaRight" b="textAreaBottom"/>
            <a:pathLst>
              <a:path w="21600" h="30736">
                <a:moveTo>
                  <a:pt x="3072" y="0"/>
                </a:moveTo>
                <a:arcTo wR="3072" hR="3072" stAng="16200000" swAng="-5400000"/>
                <a:lnTo>
                  <a:pt x="0" y="27664"/>
                </a:lnTo>
                <a:arcTo wR="3072" hR="3072" stAng="10800000" swAng="-5400000"/>
                <a:lnTo>
                  <a:pt x="18528" y="30736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Parent reviews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igns, and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retur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7238880" y="2209680"/>
            <a:ext cx="1905120" cy="2667240"/>
          </a:xfrm>
          <a:custGeom>
            <a:avLst/>
            <a:gdLst>
              <a:gd name="textAreaLeft" fmla="*/ 79200 w 1905120"/>
              <a:gd name="textAreaRight" fmla="*/ 1825920 w 1905120"/>
              <a:gd name="textAreaTop" fmla="*/ 79200 h 2667240"/>
              <a:gd name="textAreaBottom" fmla="*/ 2588040 h 2667240"/>
            </a:gdLst>
            <a:ahLst/>
            <a:rect l="textAreaLeft" t="textAreaTop" r="textAreaRight" b="textAreaBottom"/>
            <a:pathLst>
              <a:path w="21600" h="30239">
                <a:moveTo>
                  <a:pt x="3072" y="0"/>
                </a:moveTo>
                <a:arcTo wR="3072" hR="3072" stAng="16200000" swAng="-5400000"/>
                <a:lnTo>
                  <a:pt x="0" y="27167"/>
                </a:lnTo>
                <a:arcTo wR="3072" hR="3072" stAng="10800000" swAng="-5400000"/>
                <a:lnTo>
                  <a:pt x="18528" y="30239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daa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Middle school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unselor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review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and sends t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high schoo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 we mean by mainstreaming evaluation or evaluation capacity building?  Is it desirable?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46320" y="1447920"/>
            <a:ext cx="78976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instreaming Evalu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nders (2002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ed that it is an integral part of an organization’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i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per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culture and responsibilities at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ev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uignan and Wandersman(2003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to b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dapte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school set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ecision-mak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opportunity for empower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king defini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instreaming evaluation is 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t involves people at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 level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i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basis to make informed decisions.  (RTI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on Capacity Building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3520" y="83772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ckdill (200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uided practices and processes for bringing about and sustaining a state of affairs in which quality program evaluation and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ctices within and/or between one or more organizations/programs/sit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B vs. Tradit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C are ongoing a person involves to assure the environment is “conducive” to evaluation and is being used within the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evaluation system usually are a one shot evaluation of a program or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10:30Z</dcterms:created>
  <dc:creator>PoweredTemplates.com</dc:creator>
  <dc:description/>
  <dc:language>en-US</dc:language>
  <cp:lastModifiedBy>rschultz</cp:lastModifiedBy>
  <dcterms:modified xsi:type="dcterms:W3CDTF">2011-03-09T23:10:36Z</dcterms:modified>
  <cp:revision>92</cp:revision>
  <dc:subject/>
  <dc:title>PowerPoint Template</dc:title>
</cp:coreProperties>
</file>